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95C-26D1-4A87-BECF-F198D92D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37C-13E7-48BC-BBAA-0DA56157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3AC8-025D-4AA5-82CD-78B63AE0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351-6A64-4DB1-9BE0-C636B181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0539-B5BC-4493-A492-BEE5D2E7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04A0-D4D9-4AA6-94A3-A729983C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93FC-AB43-4D5E-AFC0-F9AEF94E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3FA7-524D-4918-B313-BE5DE383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D00B-6C08-44A2-B724-9A7560C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2871-2E1E-4C29-AC7E-7BBCBD2E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03CF-5EFC-487A-81BD-CB67B73E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587-F47B-45F2-9EE2-97B8C324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6969-EF67-4284-B55F-4DCA92FB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73B6-E4F5-4987-9E65-EEA5260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4044-CD64-4EF7-AA23-54913864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4082-BAE6-43AD-9769-EAED3EA9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DF13-B957-41A2-8C94-06C32166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0C7-D689-485D-8E56-4A627A47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C88-E8F8-4A55-8B71-9413690A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575-26E8-4A9F-9F2B-485E05B0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400-53A4-4971-8A49-90C42A77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E5A-C087-4F31-8AF0-67BAD9F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B55-8142-458C-8CCE-C350EBC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9F3-5121-4806-BB38-5B04460C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1F13-467A-4C41-A6A6-8EA17F82065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5B03-96D1-4040-BCE3-0A331812F11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Heimlich Maneuver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y: Steve Broussar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8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each squeeze-thrust strong enough to dislodge a foreign body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9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derstand that your thrusts make the diaphragm move air out of the victim's lungs, creating a kind of artificial </a:t>
            </a: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</a:rPr>
              <a:t>cough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1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eep a firm grip on the victim, since he or she can lose consciousness and fall to the ground if the Heimlich maneuver is not effectiv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tep 11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peat the Heimlich maneuver until the foreign body is expelle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Introduction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’s never a warning before a person gets an object caught in their throat and starts choking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oking is the body’s way of trying to remove a foreign object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ce yourself slightly behind the standing victim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333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ssure the victim that you know the Heimlich maneuver and are going to help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ce your arms around the victim's wais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5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a fist with one hand and place your thumb toward the victim, just above his or her belly butto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b your fist with your other hand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3339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ep 7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liver five upward squeeze-thrusts into the abdomen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3336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38:54Z</dcterms:created>
  <dc:creator>004student</dc:creator>
  <dc:description/>
  <dc:language>en-US</dc:language>
  <cp:lastModifiedBy>004student</cp:lastModifiedBy>
  <dcterms:modified xsi:type="dcterms:W3CDTF">2008-10-31T15:42:55Z</dcterms:modified>
  <cp:revision>2</cp:revision>
  <dc:subject/>
  <dc:title>Heimlich Maneuv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